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chimes.wav" ContentType="audio/x-wav"/>
  <Override PartName="/ppt/media/image6.png" ContentType="image/png"/>
  <Override PartName="/ppt/media/glass.wav" ContentType="audio/x-wav"/>
  <Override PartName="/ppt/media/image7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632B-5067-4669-8CA4-BF82AE4B1E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E685-BD97-468E-ABA7-C31CB70604E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light y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 period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light yea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at light travels in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one y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light travels at a speed of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300 000 000 m/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or 300 000 km/s) then if we multiply this by the number of seconds in a year we will see that light will have travelled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9.5 x 10</a:t>
            </a:r>
            <a:r>
              <a:rPr b="0" lang="en-GB" sz="1200" spc="-1" strike="noStrike" baseline="30000">
                <a:solidFill>
                  <a:srgbClr val="ff0000"/>
                </a:solidFill>
                <a:latin typeface="Calibri"/>
              </a:rPr>
              <a:t>15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 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9 500 000 000 000 000 m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100 000 times this distance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45A4-764F-40ED-9A73-F2C1B50B67A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e are millions of other galaxies which are seen further and further away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laxies themselves are millions of times further apart than the stars are within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 these galaxies make up the Universe (which includes all the empty space between galax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 is perhaps 20 000 million light years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2DC3-C3D6-489A-B75B-65C06F2C46D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, its planets and other objects in orbit are all together known as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75AD-82FA-40C4-888C-DC1F4078906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nine planets </a:t>
            </a:r>
            <a:br>
              <a:rPr sz="12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starting with the closest to the Sun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alibri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cc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alibri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Calibri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Calibri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Calibri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GB" sz="2400" spc="-1" strike="noStrike">
                <a:solidFill>
                  <a:srgbClr val="800080"/>
                </a:solidFill>
                <a:latin typeface="Calibri"/>
              </a:rPr>
              <a:t>Pl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35A8-B8F7-4A71-A5D7-A8275744DD0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do these planets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 is a star which the nine planets move a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ath each planet travels around is called it orb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lanets are kept in their orbits due to the pulling force of the Suns gra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199E-0CFF-4661-A61D-5D2885DD309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are mo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are ‘natural satellite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orbit around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oon stays in its orbit due to the gravitational pull of the pla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moon has a circular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see the moon because it reflec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2EE2-40F1-4EFF-B6FA-1AE06F8D7BE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else is  found in our Solar syst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minor planets found in their thousands between Mars and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probably fragments of asteroids that broke u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D60F-415E-4805-8CC8-B28C4AB3615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galaxy is made up of billions of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called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Milky Way galaxy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that ha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spira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Sun is just one of the stars that form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ilky Way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100 000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cross, and the nearest star to Earth (apart from the Sun)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4.2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E03E-0155-4079-8BFD-F052BAB0DEE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EFA1-783B-43AD-8340-F8328BD0250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00D-F04B-4C5A-B485-2512344B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BEB-F840-4230-BB85-5855A6AF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9B2-65EA-4C90-A0B9-F27FDA2D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FF7-F3E8-4AED-A3D7-3993B81F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4822-6CF4-4B0B-94D2-E42AFC6F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F948-42D5-42E7-9280-EA287FEA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EB28-4EFE-4AA8-AE6E-D5AC4DC8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F732-3BBB-4BF0-8C66-3954A629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9DDC-80AB-4C29-90A9-4A6BCF2A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3A09-55C1-4727-89A5-0AF40F0A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AB48-514B-4E21-A999-78E175BE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85E-A485-4426-B4F6-2B27DF67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F65B-7AFD-4421-91F8-0F20E6E0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1EFE-1D97-4ED0-AA41-DE0A65B0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3226-9404-4F40-A2A1-1376F452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3DBE-311F-4031-949C-C25B71E0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212E-7889-4AD7-ACDD-5FD65D67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1CC-F266-48BE-A76F-7F659BE1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A7D-999F-4ABA-905F-F1CD108A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E32-1AB2-4124-AF93-515F9474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B1A-3972-4C68-A626-923C6B4C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C0A2-7C4B-4DB8-B5A8-062EE4DB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143-9B31-4829-822F-05B85A7C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CA6-0A62-4B38-8758-85D346AC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BC43-EDAD-4104-B42A-B670F25AE21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3128-4753-4B17-917D-D9686A94E70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solar syst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light year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 period of ti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ight year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is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that light travels in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e yea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s light travels at a speed of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300 000 000 m/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or 300 000 km/s) then if we multiply this by the number of seconds in a year we will see that light will have travelle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9.5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9 500 000 000 000 000 m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100 000 times this distance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6854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Unive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re are millions of other galaxies which are seen further and further away in spa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alaxies themselves are millions of times further apart than the stars are within a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ll these galaxies make up the Universe (which includes all the empty space between galaxi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Universe is perhaps 20 000 million light years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the solar system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The Sun, its planets and other objects in orbit are all together known as the solar system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nine planets </a:t>
            </a:r>
            <a:br>
              <a:rPr sz="4400"/>
            </a:b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(starting with the closest to the Sun)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3244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Merc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cc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a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Satur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Ura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Arial"/>
              </a:rPr>
              <a:t>Neptu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                             </a:t>
            </a:r>
            <a:r>
              <a:rPr b="1" lang="en-GB" sz="2400" spc="-1" strike="noStrike">
                <a:solidFill>
                  <a:srgbClr val="969696"/>
                </a:solidFill>
                <a:latin typeface="Arial"/>
              </a:rPr>
              <a:t>Plut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do these planets mov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Sun is a star which the nine planets move arou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ath each planet travels around is called it orbi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lanets are kept in their orbits due to the pulling force of the Suns gravity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are moon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are ‘natural satellites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orbit around a plane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moon stays in its orbit due to the gravitational pull of the plane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Our moon has a circular orb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e see the moon because it reflects ligh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533520" y="28440"/>
          <a:ext cx="7543800" cy="667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440"/>
                    <a:ext cx="7543800" cy="667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What else is  found in our Solar syste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320" y="2057400"/>
            <a:ext cx="23382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eteori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ome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895480" y="1676520"/>
            <a:ext cx="56419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minor planets found in their thousands between Mars and 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probably fragments of asteroids that broke up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galaxy is made up of billions of sta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called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ilky Way galaxy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, that ha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piral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shap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Sun is just one of the stars that form the Milky way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Milky Way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00 000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cross, and the nearest star to Earth (apart from the Sun)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4.2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wa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The Milky Way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V="1">
            <a:off x="3886200" y="4952520"/>
            <a:ext cx="121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1:50:59Z</dcterms:created>
  <dc:creator>LEGION</dc:creator>
  <dc:description/>
  <dc:language>en-US</dc:language>
  <cp:lastModifiedBy>LEGION</cp:lastModifiedBy>
  <dcterms:modified xsi:type="dcterms:W3CDTF">2015-09-04T08:02:49Z</dcterms:modified>
  <cp:revision>4</cp:revision>
  <dc:subject/>
  <dc:title>The solar system</dc:title>
</cp:coreProperties>
</file>